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D6E-37A7-40CA-8E0D-E335901F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CCF-1ED3-4E50-A7DA-3CC5C51A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D77-E76D-434D-9768-E7A9C500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31F8-D070-4471-852D-64DC6D1D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20E-B673-462B-ACF6-911C4B72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6AC-F5D9-4A58-B059-45ADBC37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4CF-5CBE-4632-A16C-DD35A5B7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C52-B894-4E47-8424-843E1A6D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AA4-9F4B-4A7B-AC44-8A660628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C7D-D214-4DCB-BA4B-274D06C1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D33-E333-45CE-BCC7-E003D59B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3AB-6C0B-476E-8411-B73A3098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6E19-06ED-48C3-8ED7-356A44E5A5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office@amis.donbass.com" TargetMode="External"/><Relationship Id="rId3" Type="http://schemas.openxmlformats.org/officeDocument/2006/relationships/hyperlink" Target="http://www.amis.donbass.com/" TargetMode="External"/><Relationship Id="rId4" Type="http://schemas.openxmlformats.org/officeDocument/2006/relationships/hyperlink" Target="http://www.amis.donbass.com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hyperlink" Target="file:///tmp/home/.config/libreoffice/4/user/gallery/&#1044;&#1077;&#1084;&#1086;%20&#1041;&#1072;&#1085;&#1082;%208bit.wav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1197000"/>
            <a:ext cx="82296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ослушивание набранного речевого шаблона задания на системное устройство вывода с произнесением данных, взятых из реальной базы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Хранение звуковых данных в специальном структурированном файле обеспечивает целостность данных и их удобное визуальное предста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илагается большая библиотека фраз, созданная по заказам пользователей в процессе эксплуатации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Источники данных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e5ff"/>
                </a:solidFill>
                <a:latin typeface="Arial"/>
              </a:rPr>
              <a:t>Задания для оповещений извлекают необходимую информацию из баз данных и могут настраиваться двумя способ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9690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ecff"/>
                </a:solidFill>
                <a:latin typeface="Arial"/>
              </a:rPr>
              <a:t>В качестве БД используется файл определенной структуры типа </a:t>
            </a:r>
            <a:r>
              <a:rPr b="1" i="1" lang="en-US" sz="2200" spc="-1" strike="noStrike">
                <a:solidFill>
                  <a:srgbClr val="ccecff"/>
                </a:solidFill>
                <a:latin typeface="Arial"/>
              </a:rPr>
              <a:t>dBase</a:t>
            </a:r>
            <a:r>
              <a:rPr b="1" i="1" lang="ru-RU" sz="2200" spc="-1" strike="noStrike">
                <a:solidFill>
                  <a:srgbClr val="ccecff"/>
                </a:solidFill>
                <a:latin typeface="Arial"/>
              </a:rPr>
              <a:t>, имеющий некоторые обязательные поля и неограниченное количество дополнительных. Настройка задания сводится к выбору файла и ключевых параметров в дружественном интерфейсе.  Пользователь избавлен от необходимости знания особенностей СУБД и языка </a:t>
            </a:r>
            <a:r>
              <a:rPr b="1" i="1" lang="en-US" sz="2200" spc="-1" strike="noStrike">
                <a:solidFill>
                  <a:srgbClr val="ccecff"/>
                </a:solidFill>
                <a:latin typeface="Arial"/>
              </a:rPr>
              <a:t>SQL</a:t>
            </a:r>
            <a:r>
              <a:rPr b="1" i="1" lang="ru-RU" sz="2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3435480" cy="474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ecff"/>
                </a:solidFill>
                <a:latin typeface="Arial"/>
              </a:rPr>
              <a:t>Используется БД любого типа. Выборка необходимых данных и запись результатов производится с помощью </a:t>
            </a:r>
            <a:r>
              <a:rPr b="1" i="1" lang="en-US" sz="2200" spc="-1" strike="noStrike">
                <a:solidFill>
                  <a:srgbClr val="ccecff"/>
                </a:solidFill>
                <a:latin typeface="Arial"/>
              </a:rPr>
              <a:t>SQL </a:t>
            </a:r>
            <a:r>
              <a:rPr b="1" i="1" lang="ru-RU" sz="2200" spc="-1" strike="noStrike">
                <a:solidFill>
                  <a:srgbClr val="ccecff"/>
                </a:solidFill>
                <a:latin typeface="Arial"/>
              </a:rPr>
              <a:t>команд. Пользователь ответственен за корректное построение запросов к Б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26920" y="1125360"/>
            <a:ext cx="3405240" cy="489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Пользователи системы КАКАДУ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Укр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157960" cy="612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3920" y="6237360"/>
            <a:ext cx="89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Другие государства: Латвия «Паритатебанк», Грузия «ТАО Приватбан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57960" cy="611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Контактная информ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ff"/>
                </a:solidFill>
                <a:latin typeface="Arial"/>
              </a:rPr>
              <a:t>ООО «АМИС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3047 Украина г. Донец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л. Полоцкая д. 5 оф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+38 062 38671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ТС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+38 050 32801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yivstar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+38 098 30686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kype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amisoffice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CQ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 4430610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mail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office@amis.donbas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www.amis.donbas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Назна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4672080"/>
            <a:ext cx="85899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ппаратно – программный комплекс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АКАД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предназначен для автоматического оповещения по заданным спискам с помощью телефонных ли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848360" cy="588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Области приме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ПК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КАКАД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специально разработан для оповещения клиентов о задолженности за предоставленные услу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99"/>
                </a:solidFill>
                <a:latin typeface="Arial"/>
              </a:rPr>
              <a:t>банковские услу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99"/>
                </a:solidFill>
                <a:latin typeface="Arial"/>
              </a:rPr>
              <a:t>услуги телефонной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99"/>
                </a:solidFill>
                <a:latin typeface="Arial"/>
              </a:rPr>
              <a:t>кабельное телеви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99"/>
                </a:solidFill>
                <a:latin typeface="Arial"/>
              </a:rPr>
              <a:t>коммунальные услу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99"/>
                </a:solidFill>
                <a:latin typeface="Arial"/>
              </a:rPr>
              <a:t>услуги газовых, электрических и тепловых с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99"/>
                </a:solidFill>
                <a:latin typeface="Arial"/>
              </a:rPr>
              <a:t>услуги Государственной Службы Охра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Основные характеристики программного обеспе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Дружественный графический пользовательский интерфей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2025720"/>
            <a:ext cx="8377200" cy="4832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Организация многоканального режима, с возможностью закрепления каналов за определенным задание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Гибкое расписание оповещений: по времени суток, по дням недели, по числам месяца - в любом сочетан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340000" y="1844640"/>
            <a:ext cx="3456000" cy="303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484200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Поддержка БД любого тип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Тестирование заданий: на системное звуковое устройство и на «Местный телефон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Формирование списков оповещенных и неоповещенных клиен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Основные характеристики аппаратного обеспе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00360" y="1628280"/>
            <a:ext cx="62755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едставляет собой малогабаритное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USB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-устрой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Для определения момента ответа абонента используется сигнал начала тарификации – смена поляр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08000" y="1557360"/>
            <a:ext cx="2732040" cy="2198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3789360"/>
            <a:ext cx="8351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остота в подключении и использов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Не требует настрой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Низкая стоимость и высокая надеж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озможность подключения большого количества устройств – до 127 на одну шину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USB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озможность «горячего» подключения и зам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ндикация состояния ли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Варианты подклю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158320" cy="611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 Unicode MS"/>
              </a:rPr>
              <a:t>Редактор речевых шаблонов опове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18920" y="764640"/>
            <a:ext cx="70786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Удобный графический интерфейс, дающий наглядное представление как источников звуковых данных так и шаблона оповещения любого з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7345440" cy="471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1484280"/>
            <a:ext cx="1224000" cy="28908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289080"/>
              <a:gd name="textAreaBottom" fmla="*/ 256680 h 289080"/>
            </a:gdLst>
            <a:ahLst/>
            <a:rect l="textAreaLeft" t="textAreaTop" r="textAreaRight" b="textAreaBottom"/>
            <a:pathLst>
              <a:path w="91370" h="21600">
                <a:moveTo>
                  <a:pt x="0" y="0"/>
                </a:moveTo>
                <a:lnTo>
                  <a:pt x="91370" y="0"/>
                </a:lnTo>
                <a:lnTo>
                  <a:pt x="91370" y="21600"/>
                </a:lnTo>
                <a:lnTo>
                  <a:pt x="0" y="21600"/>
                </a:lnTo>
                <a:close/>
              </a:path>
              <a:path fill="lightenLess" w="91370" h="21600">
                <a:moveTo>
                  <a:pt x="0" y="0"/>
                </a:moveTo>
                <a:lnTo>
                  <a:pt x="91370" y="0"/>
                </a:lnTo>
                <a:lnTo>
                  <a:pt x="88935" y="2435"/>
                </a:lnTo>
                <a:lnTo>
                  <a:pt x="2435" y="2435"/>
                </a:lnTo>
                <a:close/>
              </a:path>
              <a:path fill="darken" w="91370" h="21600">
                <a:moveTo>
                  <a:pt x="91370" y="0"/>
                </a:moveTo>
                <a:lnTo>
                  <a:pt x="91370" y="21600"/>
                </a:lnTo>
                <a:lnTo>
                  <a:pt x="88935" y="19165"/>
                </a:lnTo>
                <a:lnTo>
                  <a:pt x="88935" y="2435"/>
                </a:lnTo>
                <a:close/>
              </a:path>
              <a:path fill="darkenLess" w="91370" h="21600">
                <a:moveTo>
                  <a:pt x="91370" y="21600"/>
                </a:moveTo>
                <a:lnTo>
                  <a:pt x="0" y="21600"/>
                </a:lnTo>
                <a:lnTo>
                  <a:pt x="2435" y="19165"/>
                </a:lnTo>
                <a:lnTo>
                  <a:pt x="88935" y="19165"/>
                </a:lnTo>
                <a:close/>
              </a:path>
              <a:path fill="lighten" w="91370" h="21600">
                <a:moveTo>
                  <a:pt x="0" y="21600"/>
                </a:moveTo>
                <a:lnTo>
                  <a:pt x="0" y="0"/>
                </a:lnTo>
                <a:lnTo>
                  <a:pt x="2435" y="2435"/>
                </a:lnTo>
                <a:lnTo>
                  <a:pt x="2435" y="1916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cc"/>
                </a:solidFill>
                <a:latin typeface="Arial"/>
              </a:rPr>
              <a:t>СТО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>
            <a:hlinkClick r:id="rId4"/>
          </p:cNvPr>
          <p:cNvSpPr/>
          <p:nvPr/>
        </p:nvSpPr>
        <p:spPr>
          <a:xfrm>
            <a:off x="179280" y="981000"/>
            <a:ext cx="1224000" cy="289080"/>
          </a:xfrm>
          <a:custGeom>
            <a:avLst/>
            <a:gdLst>
              <a:gd name="textAreaLeft" fmla="*/ 18720 w 1224000"/>
              <a:gd name="textAreaRight" fmla="*/ 1205280 w 12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91370" h="21600">
                <a:moveTo>
                  <a:pt x="0" y="0"/>
                </a:moveTo>
                <a:lnTo>
                  <a:pt x="91370" y="0"/>
                </a:lnTo>
                <a:lnTo>
                  <a:pt x="91370" y="21600"/>
                </a:lnTo>
                <a:lnTo>
                  <a:pt x="0" y="21600"/>
                </a:lnTo>
                <a:close/>
              </a:path>
              <a:path fill="lightenLess" w="91370" h="21600">
                <a:moveTo>
                  <a:pt x="0" y="0"/>
                </a:moveTo>
                <a:lnTo>
                  <a:pt x="91370" y="0"/>
                </a:lnTo>
                <a:lnTo>
                  <a:pt x="89970" y="1400"/>
                </a:lnTo>
                <a:lnTo>
                  <a:pt x="1400" y="1400"/>
                </a:lnTo>
                <a:close/>
              </a:path>
              <a:path fill="darken" w="91370" h="21600">
                <a:moveTo>
                  <a:pt x="91370" y="0"/>
                </a:moveTo>
                <a:lnTo>
                  <a:pt x="91370" y="21600"/>
                </a:lnTo>
                <a:lnTo>
                  <a:pt x="89970" y="20200"/>
                </a:lnTo>
                <a:lnTo>
                  <a:pt x="89970" y="1400"/>
                </a:lnTo>
                <a:close/>
              </a:path>
              <a:path fill="darkenLess" w="91370" h="21600">
                <a:moveTo>
                  <a:pt x="913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970" y="20200"/>
                </a:lnTo>
                <a:close/>
              </a:path>
              <a:path fill="lighten" w="913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рослуша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спользование метода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drag’n’drop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озволяет за считанные минуты составить сложный, состоящий из неограниченного количества фраз, шаблон опове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Большой набор речевых функций, позволяющих произносить как постоянные (заданные пользователем) так и переменные (взятые из БД) велич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строенный звуковой редактор позволяет оперативно создавать, прослушивать и редактировать звуковые дан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050920" y="4292640"/>
            <a:ext cx="4943520" cy="204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1:27:28Z</dcterms:created>
  <dc:creator>OLEG</dc:creator>
  <dc:description/>
  <dc:language>en-US</dc:language>
  <cp:lastModifiedBy>OLEG</cp:lastModifiedBy>
  <dcterms:modified xsi:type="dcterms:W3CDTF">2009-06-10T10:04:04Z</dcterms:modified>
  <cp:revision>19</cp:revision>
  <dc:subject/>
  <dc:title>Слайд 1</dc:title>
</cp:coreProperties>
</file>